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DE6-3644-4EC2-9946-63245512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8C3-D570-4DEE-BC36-E6959B52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499-AAD0-4F26-905D-ECC3923F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752-FA8F-4A64-8D2A-868C128F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BEA-CC1C-4324-BB0D-9FC5B7B4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767-7732-494D-AE83-AF51972A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37D-C911-435B-BFB6-53E660B1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165-FDC9-41CB-B241-106BF097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C8F-71C0-4699-9C42-C6F121F4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EA6-59B7-4A5E-A3EF-74770DA0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4E4-7A14-468A-8D01-6423D778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382-686C-4A5B-963C-DA1F7A67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C22C-74C3-4150-B037-A59D3A4213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Unit 3: Soci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1" descr=""/>
          <p:cNvPicPr/>
          <p:nvPr/>
        </p:nvPicPr>
        <p:blipFill>
          <a:blip r:embed="rId1"/>
          <a:stretch/>
        </p:blipFill>
        <p:spPr>
          <a:xfrm>
            <a:off x="1079640" y="1243080"/>
            <a:ext cx="6991200" cy="228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1908000" y="3189240"/>
            <a:ext cx="53280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3" descr=""/>
          <p:cNvPicPr/>
          <p:nvPr/>
        </p:nvPicPr>
        <p:blipFill>
          <a:blip r:embed="rId2"/>
          <a:stretch/>
        </p:blipFill>
        <p:spPr>
          <a:xfrm>
            <a:off x="974880" y="5711760"/>
            <a:ext cx="85168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nthropologists use demographic facto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tudy the reasons for changing patterns in population growth within countries and within specif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emographers have identified several different generations born during the past half centu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785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Baby Bo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2133720"/>
          <a:ext cx="8229600" cy="3970080"/>
        </p:xfrm>
        <a:graphic>
          <a:graphicData uri="http://schemas.openxmlformats.org/drawingml/2006/table">
            <a:tbl>
              <a:tblPr/>
              <a:tblGrid>
                <a:gridCol w="2057400"/>
                <a:gridCol w="2776320"/>
                <a:gridCol w="1513080"/>
                <a:gridCol w="1882800"/>
              </a:tblGrid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graphic 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s/Nick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 B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6 to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pp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Baby b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baby b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-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Baby Bo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orn 1946-1966 (Post WWII 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oomers grew up at a time of dramatic soc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boomers found that their music, most notably rock and roll, was another expression of their generation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would have the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Baby Bo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Listening to the sound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he Beatles - Hey Jude.mp3" descr=""/>
          <p:cNvPicPr/>
          <p:nvPr/>
        </p:nvPicPr>
        <p:blipFill>
          <a:blip r:embed="rId1"/>
          <a:stretch/>
        </p:blipFill>
        <p:spPr>
          <a:xfrm>
            <a:off x="8244000" y="5661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Baby Boomers: Generatio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orn in 1960-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haracterized by materialism and hig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efused to conform to societies values and lived by  “their own ru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popul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hanges in one of two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2421000"/>
            <a:ext cx="8871120" cy="453708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3" descr=""/>
          <p:cNvPicPr/>
          <p:nvPr/>
        </p:nvPicPr>
        <p:blipFill>
          <a:blip r:embed="rId2"/>
          <a:stretch/>
        </p:blipFill>
        <p:spPr>
          <a:xfrm>
            <a:off x="-347760" y="2249640"/>
            <a:ext cx="2895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between different demographic groups i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 of the baby 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Popul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Popul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movement of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3" descr=""/>
          <p:cNvPicPr/>
          <p:nvPr/>
        </p:nvPicPr>
        <p:blipFill>
          <a:blip r:embed="rId2"/>
          <a:stretch/>
        </p:blipFill>
        <p:spPr>
          <a:xfrm>
            <a:off x="-347760" y="2090880"/>
            <a:ext cx="484668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Popul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movement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Popul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atural Increase Rate- when the # of births exceeds the number of de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et Migration- the difference between immigrants and e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emography- study of human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emographers provide many useful service for a nation and lots of useful data for anthropologists and sociolog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y using population statistics they can identify different age segments and make recommendations about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" descr=""/>
          <p:cNvPicPr/>
          <p:nvPr/>
        </p:nvPicPr>
        <p:blipFill>
          <a:blip r:embed="rId2"/>
          <a:stretch/>
        </p:blipFill>
        <p:spPr>
          <a:xfrm>
            <a:off x="-384120" y="1432080"/>
            <a:ext cx="293832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ore importantly, demographers project population growth rates into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overnments use demographic forecasts to plan ahead f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3438360" y="1384200"/>
            <a:ext cx="60296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-347760" y="5797440"/>
            <a:ext cx="76867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1:54:32Z</dcterms:created>
  <dc:creator>Mariajose</dc:creator>
  <dc:description/>
  <dc:language>en-US</dc:language>
  <cp:lastModifiedBy>Jason</cp:lastModifiedBy>
  <dcterms:modified xsi:type="dcterms:W3CDTF">2010-12-06T15:34:23Z</dcterms:modified>
  <cp:revision>15</cp:revision>
  <dc:subject/>
  <dc:title>TITLE</dc:title>
</cp:coreProperties>
</file>